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2000"/>
            <a:ext cx="674532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49400" y="8991720"/>
            <a:ext cx="245268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21 Jan 09Draft Rev. 1 -- Do Not Cite or Quote</a:t>
            </a:r>
            <a:endParaRPr b="0" lang="en-US" sz="1000" spc="-1" strike="noStrike">
              <a:solidFill>
                <a:srgbClr val="000000"/>
              </a:solidFill>
              <a:latin typeface="Times New Roman"/>
            </a:endParaRPr>
          </a:p>
        </p:txBody>
      </p:sp>
      <p:sp>
        <p:nvSpPr>
          <p:cNvPr id="50" name="PlaceHolder 5"/>
          <p:cNvSpPr>
            <a:spLocks noGrp="1"/>
          </p:cNvSpPr>
          <p:nvPr>
            <p:ph type="dt" idx="5"/>
          </p:nvPr>
        </p:nvSpPr>
        <p:spPr>
          <a:xfrm>
            <a:off x="2895480" y="8991720"/>
            <a:ext cx="160200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1" name="Rectangle 9"/>
          <p:cNvSpPr/>
          <p:nvPr/>
        </p:nvSpPr>
        <p:spPr>
          <a:xfrm>
            <a:off x="457200" y="8991720"/>
            <a:ext cx="1546200" cy="457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6-</a:t>
            </a:r>
            <a:fld id="{650D9B12-541D-4BC2-AE96-6152940AF1C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6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295280" y="685800"/>
            <a:ext cx="4800600" cy="3600360"/>
          </a:xfrm>
          <a:prstGeom prst="rect">
            <a:avLst/>
          </a:prstGeom>
          <a:ln w="0">
            <a:noFill/>
          </a:ln>
        </p:spPr>
      </p:sp>
      <p:sp>
        <p:nvSpPr>
          <p:cNvPr id="71" name="PlaceHolder 2"/>
          <p:cNvSpPr>
            <a:spLocks noGrp="1"/>
          </p:cNvSpPr>
          <p:nvPr>
            <p:ph type="body"/>
          </p:nvPr>
        </p:nvSpPr>
        <p:spPr>
          <a:xfrm>
            <a:off x="1219320" y="4648320"/>
            <a:ext cx="5486400" cy="43178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guage of the RRP Rule i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Firms performing renovations must retain and, if requested, make available to EPA, all records necessary to demonstrate compliance…for a period of three years following completion of the renovation.”</a:t>
            </a:r>
            <a:endParaRPr b="0" lang="en-US" sz="1100" spc="-1" strike="noStrike">
              <a:solidFill>
                <a:srgbClr val="000000"/>
              </a:solidFill>
              <a:latin typeface="Arial"/>
            </a:endParaRPr>
          </a:p>
        </p:txBody>
      </p:sp>
      <p:sp>
        <p:nvSpPr>
          <p:cNvPr id="72" name="Text Box 4"/>
          <p:cNvSpPr/>
          <p:nvPr/>
        </p:nvSpPr>
        <p:spPr>
          <a:xfrm>
            <a:off x="1295280" y="5715000"/>
            <a:ext cx="510552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also has a three year record retention requirement for notices, evaluations, and clearance or abatement reports          (24 CFR 35.175).</a:t>
            </a:r>
            <a:endParaRPr b="0" lang="en-US" sz="1000" spc="-1" strike="noStrike">
              <a:solidFill>
                <a:srgbClr val="000000"/>
              </a:solidFill>
              <a:latin typeface="Times New Roman"/>
            </a:endParaRPr>
          </a:p>
        </p:txBody>
      </p:sp>
      <p:pic>
        <p:nvPicPr>
          <p:cNvPr id="73" name="Picture 6" descr="HUD-seal-color 300 DPI"/>
          <p:cNvPicPr/>
          <p:nvPr/>
        </p:nvPicPr>
        <p:blipFill>
          <a:blip r:embed="rId1"/>
          <a:stretch/>
        </p:blipFill>
        <p:spPr>
          <a:xfrm>
            <a:off x="1523880" y="5791320"/>
            <a:ext cx="376200" cy="38088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295280" y="685800"/>
            <a:ext cx="4800600" cy="3600360"/>
          </a:xfrm>
          <a:prstGeom prst="rect">
            <a:avLst/>
          </a:prstGeom>
          <a:ln w="0">
            <a:noFill/>
          </a:ln>
        </p:spPr>
      </p:sp>
      <p:sp>
        <p:nvSpPr>
          <p:cNvPr id="77" name="PlaceHolder 2"/>
          <p:cNvSpPr>
            <a:spLocks noGrp="1"/>
          </p:cNvSpPr>
          <p:nvPr>
            <p:ph type="body"/>
          </p:nvPr>
        </p:nvSpPr>
        <p:spPr>
          <a:xfrm>
            <a:off x="668160" y="4413240"/>
            <a:ext cx="6056640" cy="4811760"/>
          </a:xfrm>
          <a:prstGeom prst="rect">
            <a:avLst/>
          </a:prstGeom>
          <a:noFill/>
          <a:ln w="0">
            <a:noFill/>
          </a:ln>
        </p:spPr>
        <p:txBody>
          <a:bodyPr lIns="96480" rIns="9648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ertified Firm must designate (in writing) a Certified Renovator to be responsible for each renovation job in target housing or a child-occupied facility.</a:t>
            </a:r>
            <a:r>
              <a:rPr b="0" lang="en-US" sz="1000" spc="-1" strike="noStrike">
                <a:solidFill>
                  <a:srgbClr val="000000"/>
                </a:solidFill>
                <a:latin typeface="Arial"/>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to be maintained on site include:</a:t>
            </a:r>
            <a:endParaRPr b="0" lang="en-US" sz="12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to be maintained to document the job:</a:t>
            </a:r>
            <a:endParaRPr b="0" lang="en-US" sz="12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ion of a Certified Renovator to the job.</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on and results of use of EPA-recognized test kits or paint chip sample collection provided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based paint inspection reports provided by a Certified Lead Inspector or Certified Lead Risk Assessor, if applicable.</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owner/occupant pre-renovation education, including receipt of the pamphlet </a:t>
            </a:r>
            <a:r>
              <a:rPr b="0" i="1" lang="en-US" sz="1000" spc="-1" strike="noStrike">
                <a:solidFill>
                  <a:srgbClr val="000000"/>
                </a:solidFill>
                <a:latin typeface="Arial"/>
              </a:rPr>
              <a:t>Renovate Right: Important Lead Hazard Information for Families, Child Care Providers and Schools.</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ther signed and dated documents from the owner(s) and/or residents regarding conduct of the renovation and requirements in the EPA RRP Rule.</a:t>
            </a:r>
            <a:endParaRPr b="0" lang="en-US" sz="1000" spc="-1" strike="noStrike">
              <a:solidFill>
                <a:srgbClr val="000000"/>
              </a:solidFill>
              <a:latin typeface="Arial"/>
            </a:endParaRPr>
          </a:p>
          <a:p>
            <a:pPr lvl="1" marL="460440" indent="-2383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ports required from the Certified Firm and the Certified Renovator by the EPA RRP Rul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9"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295280" y="685800"/>
            <a:ext cx="4800600" cy="3600360"/>
          </a:xfrm>
          <a:prstGeom prst="rect">
            <a:avLst/>
          </a:prstGeom>
          <a:ln w="0">
            <a:noFill/>
          </a:ln>
        </p:spPr>
      </p:sp>
      <p:sp>
        <p:nvSpPr>
          <p:cNvPr id="81" name="PlaceHolder 2"/>
          <p:cNvSpPr>
            <a:spLocks noGrp="1"/>
          </p:cNvSpPr>
          <p:nvPr>
            <p:ph type="body"/>
          </p:nvPr>
        </p:nvSpPr>
        <p:spPr>
          <a:xfrm>
            <a:off x="904680" y="4490640"/>
            <a:ext cx="5662440" cy="4398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ion of Non-Certified Renovator Training</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who conducted the non-certified renovator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implify this documentation, your training manual includes a form that can be adapted for documenting hands-on and topical training for non-certified renovation workers (See Appendix 6).</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2895480" y="8991720"/>
            <a:ext cx="160200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3"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295280" y="685800"/>
            <a:ext cx="4800600" cy="3600360"/>
          </a:xfrm>
          <a:prstGeom prst="rect">
            <a:avLst/>
          </a:prstGeom>
          <a:ln w="0">
            <a:noFill/>
          </a:ln>
        </p:spPr>
      </p:sp>
      <p:sp>
        <p:nvSpPr>
          <p:cNvPr id="85" name="PlaceHolder 2"/>
          <p:cNvSpPr>
            <a:spLocks noGrp="1"/>
          </p:cNvSpPr>
          <p:nvPr>
            <p:ph type="body"/>
          </p:nvPr>
        </p:nvSpPr>
        <p:spPr>
          <a:xfrm>
            <a:off x="904680" y="4490640"/>
            <a:ext cx="5414760" cy="472932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project information (compliance with renovation training, certification, and work practice requirements).  This can accomplished by completing the sample form titled “Sample Renovation Recordkeeping Checklist”, or a similar form.</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information documentation must also be distributed when the final invoice is delivered or within 30 days of the completion, whichever is earlier, to the following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the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ust clearance sampling is performed the firm must provide, when the final invoice for the renovation is delivered or within 30 days of the completion of the renovation, whichever is earlier, a copy of the dust sampling report t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of the building; and, if differ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dult occupant, or an adult representative of a child-occupied fac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When work is done in common areas of multi-unit housing, firms must post project information and dust sampling reports on how interested occupants of the housing being renovated can obtain a copy of the report. This information must be posted in areas where they are likely to be seen by all affected occupants.</a:t>
            </a:r>
            <a:endParaRPr b="0" lang="en-US" sz="1000" spc="-1" strike="noStrike">
              <a:solidFill>
                <a:srgbClr val="000000"/>
              </a:solidFill>
              <a:latin typeface="Arial"/>
            </a:endParaRPr>
          </a:p>
          <a:p>
            <a:pPr lvl="1"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D339B-9700-45FC-9C5D-89244BB68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843E0-696C-417D-B99A-F7546A05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A5BF2-6E9D-4283-93CC-7CD154A6E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C30C8-18BF-486C-92FB-6DAB16546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65A85-8451-4223-B329-9F93E687C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F057-1C86-4EE2-BFB4-A9381268E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C0B66-2D88-41E3-A543-C8A7B3975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4E48-0135-453D-A625-966850854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4572-B6BC-475B-A58A-B20710D70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879A-FDCE-4C92-9038-B299FDF4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22E4C-BD80-416B-887C-8875C84F1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844A-62AD-4417-B27D-6025C4806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971440" y="6400800"/>
            <a:ext cx="335268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raft Rev. 1 -- Do Not Cite or Quote</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82880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EE7783AE-D697-4BB6-B8AE-E18149E69DBD}"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229600" y="5715000"/>
            <a:ext cx="685800" cy="663480"/>
          </a:xfrm>
          <a:prstGeom prst="rect">
            <a:avLst/>
          </a:prstGeom>
          <a:ln w="0">
            <a:noFill/>
          </a:ln>
        </p:spPr>
      </p:pic>
      <p:graphicFrame>
        <p:nvGraphicFramePr>
          <p:cNvPr id="7" name="Object 12"/>
          <p:cNvGraphicFramePr/>
          <p:nvPr/>
        </p:nvGraphicFramePr>
        <p:xfrm>
          <a:off x="6553080" y="5715000"/>
          <a:ext cx="1486080" cy="698400"/>
        </p:xfrm>
        <a:graphic>
          <a:graphicData uri="http://schemas.openxmlformats.org/presentationml/2006/ole">
            <p:oleObj r:id="rId3" spid="">
              <p:embed/>
              <p:pic>
                <p:nvPicPr>
                  <p:cNvPr id="8" name="Object 12" descr=""/>
                  <p:cNvPicPr/>
                  <p:nvPr/>
                </p:nvPicPr>
                <p:blipFill>
                  <a:blip r:embed="rId4"/>
                  <a:stretch/>
                </p:blipFill>
                <p:spPr>
                  <a:xfrm>
                    <a:off x="6553080" y="5715000"/>
                    <a:ext cx="1486080" cy="698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53"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BAF00C79-33FF-4B2D-8B7E-FB01957AAC2F}"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6: Recordkeeping</a:t>
            </a:r>
            <a:endParaRPr b="1" lang="en-US" sz="36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r>
              <a:rPr b="1" lang="en-US" sz="3200" spc="-1" strike="noStrike">
                <a:solidFill>
                  <a:srgbClr val="000099"/>
                </a:solidFill>
                <a:latin typeface="Arial"/>
              </a:rPr>
              <a:t> </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this section, you will learn about records required for each job.</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cords must be retained and made available to EPA, upon request, for 3 years following completion of renovation.</a:t>
            </a: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57"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83344EA7-CE72-4709-8153-62CF11AC8F1C}"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n-The-Job Records</a:t>
            </a:r>
            <a:endParaRPr b="1" lang="en-US" sz="3600" spc="-1" strike="noStrike">
              <a:solidFill>
                <a:srgbClr val="000099"/>
              </a:solidFill>
              <a:latin typeface="Arial"/>
            </a:endParaRPr>
          </a:p>
        </p:txBody>
      </p:sp>
      <p:sp>
        <p:nvSpPr>
          <p:cNvPr id="59" name="PlaceHolder 2"/>
          <p:cNvSpPr>
            <a:spLocks noGrp="1"/>
          </p:cNvSpPr>
          <p:nvPr>
            <p:ph/>
          </p:nvPr>
        </p:nvSpPr>
        <p:spPr>
          <a:xfrm>
            <a:off x="304920" y="1726920"/>
            <a:ext cx="8534160" cy="426708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pies of Certified Firm and Certified Renovator certifications (must be kept on sit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testing results when using an EPA-recognized test kit or paint chip sampl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boratory results when a paint chip sample is obtained by a Certified Renovator</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of of owner/occupant pre-renovation education, including receipt of </a:t>
            </a:r>
            <a:r>
              <a:rPr b="1" i="1" lang="en-US" sz="2400" spc="-1" strike="noStrike">
                <a:solidFill>
                  <a:srgbClr val="000099"/>
                </a:solidFill>
                <a:latin typeface="Arial"/>
              </a:rPr>
              <a:t>Renovate Right </a:t>
            </a:r>
            <a:r>
              <a:rPr b="1" lang="en-US" sz="2400" spc="-1" strike="noStrike">
                <a:solidFill>
                  <a:srgbClr val="000099"/>
                </a:solidFill>
                <a:latin typeface="Arial"/>
              </a:rPr>
              <a:t>pamphlet.</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n-certified renovation worker training documentation.</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61"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3C0BA143-9DBE-497E-86C3-B5E2F3547EAA}"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62"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Non-Certified Renovator Training Records</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63" name="PlaceHolder 2"/>
          <p:cNvSpPr>
            <a:spLocks noGrp="1"/>
          </p:cNvSpPr>
          <p:nvPr>
            <p:ph/>
          </p:nvPr>
        </p:nvSpPr>
        <p:spPr>
          <a:xfrm>
            <a:off x="304920" y="1981080"/>
            <a:ext cx="8610480" cy="41148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scription of the lead safe work practices the non-certified renovation worker is trained to perform.</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leted and signed skills evaluation checklists.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ate(s) of train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 who conducted the training.</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October 2011</a:t>
            </a:r>
            <a:endParaRPr b="0" lang="en-US" sz="1000" spc="-1" strike="noStrike">
              <a:solidFill>
                <a:srgbClr val="000000"/>
              </a:solidFill>
              <a:latin typeface="Times New Roman"/>
            </a:endParaRPr>
          </a:p>
        </p:txBody>
      </p:sp>
      <p:sp>
        <p:nvSpPr>
          <p:cNvPr id="65" name="Rectangle 6"/>
          <p:cNvSpPr/>
          <p:nvPr/>
        </p:nvSpPr>
        <p:spPr>
          <a:xfrm>
            <a:off x="6858000" y="6400800"/>
            <a:ext cx="182880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a:t>
            </a:r>
            <a:fld id="{9FE87C24-50B0-441B-95BB-45E6AB1FE0C8}" type="slidenum">
              <a:rPr b="0" lang="en-US" sz="1000" spc="-1" strike="noStrike">
                <a:solidFill>
                  <a:srgbClr val="000099"/>
                </a:solidFill>
                <a:latin typeface="Arial"/>
              </a:rPr>
              <a:t>&lt;number&gt;</a:t>
            </a:fld>
            <a:endParaRPr b="0" lang="en-US" sz="1000" spc="-1" strike="noStrike">
              <a:solidFill>
                <a:srgbClr val="000000"/>
              </a:solidFill>
              <a:latin typeface="Times New Roman"/>
            </a:endParaRPr>
          </a:p>
        </p:txBody>
      </p:sp>
      <p:sp>
        <p:nvSpPr>
          <p:cNvPr id="6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Post-Renovation Reporting</a:t>
            </a:r>
            <a:endParaRPr b="1" lang="en-US" sz="3600" spc="-1" strike="noStrike">
              <a:solidFill>
                <a:srgbClr val="000099"/>
              </a:solidFill>
              <a:latin typeface="Arial"/>
            </a:endParaRPr>
          </a:p>
        </p:txBody>
      </p:sp>
      <p:sp>
        <p:nvSpPr>
          <p:cNvPr id="67" name="PlaceHolder 2"/>
          <p:cNvSpPr>
            <a:spLocks noGrp="1"/>
          </p:cNvSpPr>
          <p:nvPr>
            <p:ph/>
          </p:nvPr>
        </p:nvSpPr>
        <p:spPr>
          <a:xfrm>
            <a:off x="228240" y="1752480"/>
            <a:ext cx="8534520" cy="4267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llowing a renovation, firms must document and share the following information</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ject information documenting compliance with renovation training, certification, and work practice requirements. </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performed, documentation of dust clearance sampling.</a:t>
            </a:r>
            <a:endParaRPr b="1" lang="en-US" sz="2400" spc="-1" strike="noStrike">
              <a:solidFill>
                <a:srgbClr val="000099"/>
              </a:solidFill>
              <a:latin typeface="Arial"/>
            </a:endParaRPr>
          </a:p>
          <a:p>
            <a:pPr>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s information must be prepared, retained by the firm and shared with owners and occupants of housing and child-occupied faciliti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8:58:48Z</dcterms:modified>
  <cp:revision>245</cp:revision>
  <dc:subject/>
  <dc:title>Module 6: Recordkee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